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8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1D29-1FF9-4B7D-9AE2-8C1B305C8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EC27-5B09-4055-B96A-8D602B1B4F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20AE-D589-4CA1-B7D3-4AEC9231AE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78C-B900-4BDA-8135-D8D78968D5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F020-1858-4DC4-A723-453900BEF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0333-91B2-403C-AE78-78ACA279A7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1499-4ECC-4902-B8D4-CAEBC5E2B5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A226-8AA3-44E1-A030-91276A940E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32F-B47A-42A7-A9AE-83461D07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B14-33E2-4859-85C1-99D129B7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472-C1E9-47FC-9615-159E9E58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6CE-C8C3-4D60-93E3-AE17466B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443-5192-4F12-9C52-F034D48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44A-8A41-4ECA-ABE5-4E34FC83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39D-BA3E-4402-BCD4-BEC6F1B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034-D81E-47FD-BE4B-F052165B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3A9-8FB3-4D5E-9F8E-945E0C67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EC3-CE49-46FE-AD8A-7BB8CB9D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B13-5548-439B-BC4C-0571323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272-BB9D-4CD6-9FAC-E76BB4EA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20A1-68B0-4151-B422-7BE023409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51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19350000">
            <a:off x="549360" y="2209320"/>
            <a:ext cx="714672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verse Function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 rot="13090200">
            <a:off x="703800" y="7921800"/>
            <a:ext cx="714708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verse Function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54080" y="2058840"/>
            <a:ext cx="8835840" cy="46450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49120" y="2108160"/>
            <a:ext cx="86457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function, f, ha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verse func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, g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(iff) the function f i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e-to-one (1-1) func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04920" y="152280"/>
            <a:ext cx="8458200" cy="175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34880" y="236520"/>
            <a:ext cx="81979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xistence of a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verse Func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e-to-One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47640" y="146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ifferen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duc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ame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an inverse of the functio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es not ex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ifferen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pu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du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fferent outpu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the function is said to be “one-to-on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one-to-one function has an in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2741760" y="4668840"/>
          <a:ext cx="371304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1760" y="4668840"/>
                    <a:ext cx="37130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4"/>
          <p:cNvGraphicFramePr/>
          <p:nvPr/>
        </p:nvGraphicFramePr>
        <p:xfrm>
          <a:off x="2782800" y="6075360"/>
          <a:ext cx="380700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2800" y="6075360"/>
                    <a:ext cx="3807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e-to-One Fun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izontal line te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1312920" y="2522520"/>
            <a:ext cx="2971800" cy="1562040"/>
          </a:xfrm>
          <a:prstGeom prst="rect">
            <a:avLst/>
          </a:prstGeom>
          <a:ln w="0">
            <a:noFill/>
          </a:ln>
        </p:spPr>
      </p:pic>
      <p:pic>
        <p:nvPicPr>
          <p:cNvPr id="99" name="HorizontalLine.avi" descr=""/>
          <p:cNvPicPr/>
          <p:nvPr/>
        </p:nvPicPr>
        <p:blipFill>
          <a:blip r:embed="rId2"/>
          <a:stretch/>
        </p:blipFill>
        <p:spPr>
          <a:xfrm>
            <a:off x="5275440" y="3970440"/>
            <a:ext cx="2666880" cy="1714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0" name="Object 4"/>
          <p:cNvGraphicFramePr/>
          <p:nvPr/>
        </p:nvGraphicFramePr>
        <p:xfrm>
          <a:off x="5958000" y="3192480"/>
          <a:ext cx="130176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8000" y="3192480"/>
                    <a:ext cx="1301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5"/>
          <p:cNvGraphicFramePr/>
          <p:nvPr/>
        </p:nvGraphicFramePr>
        <p:xfrm>
          <a:off x="2286000" y="4251240"/>
          <a:ext cx="1301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4251240"/>
                    <a:ext cx="1301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655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ding the In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1352520" y="3935520"/>
            <a:ext cx="2743200" cy="1181160"/>
            <a:chOff x="1352520" y="3935520"/>
            <a:chExt cx="2743200" cy="1181160"/>
          </a:xfrm>
        </p:grpSpPr>
        <p:sp>
          <p:nvSpPr>
            <p:cNvPr id="106" name="Text Box 4"/>
            <p:cNvSpPr/>
            <p:nvPr/>
          </p:nvSpPr>
          <p:spPr>
            <a:xfrm>
              <a:off x="1352520" y="431640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T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07" name="Object 5"/>
            <p:cNvGraphicFramePr/>
            <p:nvPr/>
          </p:nvGraphicFramePr>
          <p:xfrm>
            <a:off x="2266920" y="3935520"/>
            <a:ext cx="1828800" cy="1181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6920" y="3935520"/>
                      <a:ext cx="1828800" cy="118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6"/>
          <p:cNvGraphicFramePr/>
          <p:nvPr/>
        </p:nvGraphicFramePr>
        <p:xfrm>
          <a:off x="950760" y="1714680"/>
          <a:ext cx="3910320" cy="17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0760" y="1714680"/>
                    <a:ext cx="391032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990720" y="358920"/>
            <a:ext cx="73152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Find the inverse of a function :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Example :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 = 6x  -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24520" y="2421000"/>
            <a:ext cx="3757680" cy="520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p 1:  Switch x and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321440" y="244620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 = 6y -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32800" y="3076560"/>
            <a:ext cx="31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p 2:  Solve for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4324320" y="3208320"/>
          <a:ext cx="183024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4320" y="3208320"/>
                    <a:ext cx="18302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Line 8"/>
          <p:cNvSpPr/>
          <p:nvPr/>
        </p:nvSpPr>
        <p:spPr>
          <a:xfrm flipH="1">
            <a:off x="4511520" y="1604880"/>
            <a:ext cx="68112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4486320" y="1587600"/>
            <a:ext cx="733320" cy="968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78600" y="1904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61960" y="990720"/>
            <a:ext cx="78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Given the function :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 = 3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2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find the inver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35760" y="2390760"/>
            <a:ext cx="3757680" cy="520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p 1:  Switch x and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506480" y="2387520"/>
            <a:ext cx="17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 = 3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50160" y="3016080"/>
            <a:ext cx="31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ep 2:  Solve for 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Object 8"/>
          <p:cNvGraphicFramePr/>
          <p:nvPr/>
        </p:nvGraphicFramePr>
        <p:xfrm>
          <a:off x="4419720" y="3048120"/>
          <a:ext cx="183024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048120"/>
                    <a:ext cx="183024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Line 10"/>
          <p:cNvSpPr/>
          <p:nvPr/>
        </p:nvSpPr>
        <p:spPr>
          <a:xfrm flipH="1">
            <a:off x="4687560" y="1506600"/>
            <a:ext cx="174600" cy="100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4232160" y="1487520"/>
            <a:ext cx="1200240" cy="1028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Given the function y = f(x)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Interchange x and 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Solve the result of Step 2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 = g(x)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 If y = g(x) is a function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g(x) = f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04920" y="152280"/>
            <a:ext cx="8458200" cy="1067040"/>
          </a:xfrm>
          <a:prstGeom prst="rect">
            <a:avLst/>
          </a:prstGeom>
          <a:gradFill rotWithShape="0">
            <a:gsLst>
              <a:gs pos="0">
                <a:srgbClr val="7f7f66"/>
              </a:gs>
              <a:gs pos="50000">
                <a:srgbClr val="ffffcc"/>
              </a:gs>
              <a:gs pos="100000">
                <a:srgbClr val="7f7f66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34880" y="236520"/>
            <a:ext cx="8197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ding the Inverse of a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54080" y="2058840"/>
            <a:ext cx="8835840" cy="464508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49120" y="2108160"/>
            <a:ext cx="86457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function, f, has an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verse functio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, g,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(g(x)) = 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(f(x)) = x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or every x in domain of g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d in the domain of f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920" y="152280"/>
            <a:ext cx="8458200" cy="175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34880" y="236520"/>
            <a:ext cx="81979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finition of a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verse Func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54080" y="1982880"/>
            <a:ext cx="8835840" cy="479736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49120" y="2031840"/>
            <a:ext cx="864576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f the function f has an inverse function g, then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152280"/>
            <a:ext cx="8458200" cy="1752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30320" y="236520"/>
            <a:ext cx="8708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lationship between Domains and Ranges of f and 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144440" y="4040280"/>
            <a:ext cx="5561280" cy="2512800"/>
            <a:chOff x="1144440" y="4040280"/>
            <a:chExt cx="5561280" cy="2512800"/>
          </a:xfrm>
        </p:grpSpPr>
        <p:grpSp>
          <p:nvGrpSpPr>
            <p:cNvPr id="141" name="Group 7"/>
            <p:cNvGrpSpPr/>
            <p:nvPr/>
          </p:nvGrpSpPr>
          <p:grpSpPr>
            <a:xfrm>
              <a:off x="3506760" y="5564160"/>
              <a:ext cx="2208240" cy="836640"/>
              <a:chOff x="3506760" y="5564160"/>
              <a:chExt cx="2208240" cy="836640"/>
            </a:xfrm>
          </p:grpSpPr>
          <p:sp>
            <p:nvSpPr>
              <p:cNvPr id="142" name="Line 8"/>
              <p:cNvSpPr/>
              <p:nvPr/>
            </p:nvSpPr>
            <p:spPr>
              <a:xfrm>
                <a:off x="3506760" y="5564160"/>
                <a:ext cx="2208240" cy="83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Line 9"/>
              <p:cNvSpPr/>
              <p:nvPr/>
            </p:nvSpPr>
            <p:spPr>
              <a:xfrm flipH="1">
                <a:off x="3506760" y="5564160"/>
                <a:ext cx="2208240" cy="76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Line 10"/>
            <p:cNvSpPr/>
            <p:nvPr/>
          </p:nvSpPr>
          <p:spPr>
            <a:xfrm>
              <a:off x="1144440" y="4800600"/>
              <a:ext cx="556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>
              <a:off x="1828800" y="4040280"/>
              <a:ext cx="0" cy="251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912960" y="258840"/>
            <a:ext cx="73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raphically, the x and y values of a point are switch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5599080" y="181620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point (4, 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626080" y="2308320"/>
            <a:ext cx="316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s an inverse point of (7,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267600" y="3529080"/>
            <a:ext cx="13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568840" y="4235400"/>
            <a:ext cx="28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point (-5,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616720" y="4727520"/>
            <a:ext cx="29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s an inverse point of (3, -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19" descr="[image]"/>
          <p:cNvPicPr/>
          <p:nvPr/>
        </p:nvPicPr>
        <p:blipFill>
          <a:blip r:embed="rId1"/>
          <a:srcRect l="4900" t="5278" r="4535" b="4938"/>
          <a:stretch/>
        </p:blipFill>
        <p:spPr>
          <a:xfrm>
            <a:off x="620640" y="1754280"/>
            <a:ext cx="466092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unction is a set of ordered pairs with no two first elements alik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(x) = { (x,y) : (3, 2), (1, 4), (7, 6), (9,12)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... what if we reverse the order of the pai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function ... it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ver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x) = { (x,y) : (2, 3), (4, 1), (6, 7), (12, 9) 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26" descr=""/>
          <p:cNvPicPr/>
          <p:nvPr/>
        </p:nvPicPr>
        <p:blipFill>
          <a:blip r:embed="rId1"/>
          <a:stretch/>
        </p:blipFill>
        <p:spPr>
          <a:xfrm>
            <a:off x="316080" y="1173240"/>
            <a:ext cx="4975200" cy="4930560"/>
          </a:xfrm>
          <a:prstGeom prst="rect">
            <a:avLst/>
          </a:prstGeom>
          <a:ln w="0">
            <a:noFill/>
          </a:ln>
        </p:spPr>
      </p:pic>
      <p:sp>
        <p:nvSpPr>
          <p:cNvPr id="154" name="Line 224"/>
          <p:cNvSpPr/>
          <p:nvPr/>
        </p:nvSpPr>
        <p:spPr>
          <a:xfrm flipV="1">
            <a:off x="488880" y="1412640"/>
            <a:ext cx="4586400" cy="4539960"/>
          </a:xfrm>
          <a:prstGeom prst="line">
            <a:avLst/>
          </a:prstGeom>
          <a:ln w="28440">
            <a:solidFill>
              <a:srgbClr val="6600cc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50200" y="349200"/>
            <a:ext cx="84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Graphically, the x and y values of a point are switch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707080" y="1157400"/>
            <a:ext cx="31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f the function y = g(x) contains th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5538960" y="3159000"/>
            <a:ext cx="360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n its inverse, y = g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x), contains th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826240" y="2193840"/>
          <a:ext cx="2709720" cy="792360"/>
        </p:xfrm>
        <a:graphic>
          <a:graphicData uri="http://schemas.openxmlformats.org/drawingml/2006/table">
            <a:tbl>
              <a:tblPr/>
              <a:tblGrid>
                <a:gridCol w="450720"/>
                <a:gridCol w="453960"/>
                <a:gridCol w="451080"/>
                <a:gridCol w="449280"/>
                <a:gridCol w="453960"/>
                <a:gridCol w="450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810400" y="4164120"/>
          <a:ext cx="2709720" cy="896760"/>
        </p:xfrm>
        <a:graphic>
          <a:graphicData uri="http://schemas.openxmlformats.org/drawingml/2006/table">
            <a:tbl>
              <a:tblPr/>
              <a:tblGrid>
                <a:gridCol w="450720"/>
                <a:gridCol w="453960"/>
                <a:gridCol w="450720"/>
                <a:gridCol w="449280"/>
                <a:gridCol w="454320"/>
                <a:gridCol w="450720"/>
              </a:tblGrid>
              <a:tr h="50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205"/>
          <p:cNvSpPr/>
          <p:nvPr/>
        </p:nvSpPr>
        <p:spPr>
          <a:xfrm>
            <a:off x="5797440" y="5349960"/>
            <a:ext cx="31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Where is there a line of reflec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Oval 208"/>
          <p:cNvSpPr/>
          <p:nvPr/>
        </p:nvSpPr>
        <p:spPr>
          <a:xfrm>
            <a:off x="2778120" y="3390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209"/>
          <p:cNvSpPr/>
          <p:nvPr/>
        </p:nvSpPr>
        <p:spPr>
          <a:xfrm>
            <a:off x="2975040" y="32083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Oval 210"/>
          <p:cNvSpPr/>
          <p:nvPr/>
        </p:nvSpPr>
        <p:spPr>
          <a:xfrm>
            <a:off x="3164040" y="281160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Oval 211"/>
          <p:cNvSpPr/>
          <p:nvPr/>
        </p:nvSpPr>
        <p:spPr>
          <a:xfrm>
            <a:off x="3570120" y="2025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Oval 212"/>
          <p:cNvSpPr/>
          <p:nvPr/>
        </p:nvSpPr>
        <p:spPr>
          <a:xfrm>
            <a:off x="2386080" y="3557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213"/>
          <p:cNvSpPr/>
          <p:nvPr/>
        </p:nvSpPr>
        <p:spPr>
          <a:xfrm>
            <a:off x="2575080" y="35067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Oval 216"/>
          <p:cNvSpPr/>
          <p:nvPr/>
        </p:nvSpPr>
        <p:spPr>
          <a:xfrm>
            <a:off x="2811600" y="3989520"/>
            <a:ext cx="72720" cy="72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Oval 219"/>
          <p:cNvSpPr/>
          <p:nvPr/>
        </p:nvSpPr>
        <p:spPr>
          <a:xfrm>
            <a:off x="2874960" y="379872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Oval 220"/>
          <p:cNvSpPr/>
          <p:nvPr/>
        </p:nvSpPr>
        <p:spPr>
          <a:xfrm>
            <a:off x="2981160" y="36036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Oval 221"/>
          <p:cNvSpPr/>
          <p:nvPr/>
        </p:nvSpPr>
        <p:spPr>
          <a:xfrm>
            <a:off x="3171960" y="3389400"/>
            <a:ext cx="7272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222"/>
          <p:cNvSpPr/>
          <p:nvPr/>
        </p:nvSpPr>
        <p:spPr>
          <a:xfrm>
            <a:off x="3568680" y="3200400"/>
            <a:ext cx="7308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val 223"/>
          <p:cNvSpPr/>
          <p:nvPr/>
        </p:nvSpPr>
        <p:spPr>
          <a:xfrm>
            <a:off x="4361040" y="2806560"/>
            <a:ext cx="72720" cy="730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1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2" dur="1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1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1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0"/>
          <p:cNvGrpSpPr/>
          <p:nvPr/>
        </p:nvGrpSpPr>
        <p:grpSpPr>
          <a:xfrm>
            <a:off x="3481560" y="841320"/>
            <a:ext cx="5117760" cy="5148360"/>
            <a:chOff x="3481560" y="841320"/>
            <a:chExt cx="5117760" cy="5148360"/>
          </a:xfrm>
        </p:grpSpPr>
        <p:pic>
          <p:nvPicPr>
            <p:cNvPr id="174" name="Picture 19" descr="[image]"/>
            <p:cNvPicPr/>
            <p:nvPr/>
          </p:nvPicPr>
          <p:blipFill>
            <a:blip r:embed="rId1"/>
            <a:stretch/>
          </p:blipFill>
          <p:spPr>
            <a:xfrm>
              <a:off x="3481560" y="841320"/>
              <a:ext cx="5117760" cy="51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Line 12"/>
            <p:cNvSpPr/>
            <p:nvPr/>
          </p:nvSpPr>
          <p:spPr>
            <a:xfrm flipH="1">
              <a:off x="6078600" y="4243320"/>
              <a:ext cx="1440" cy="1244520"/>
            </a:xfrm>
            <a:prstGeom prst="line">
              <a:avLst/>
            </a:prstGeom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Text Box 6"/>
          <p:cNvSpPr/>
          <p:nvPr/>
        </p:nvSpPr>
        <p:spPr>
          <a:xfrm>
            <a:off x="285840" y="1735200"/>
            <a:ext cx="288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The graph of a function and its inverse are mirror images about the l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83480" y="9478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y =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137280" y="909720"/>
            <a:ext cx="14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 = f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7178760" y="2798640"/>
            <a:ext cx="15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 = f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4008600" y="1380960"/>
            <a:ext cx="4084560" cy="41054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824040" y="4338720"/>
            <a:ext cx="175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Times New Roman"/>
              </a:rPr>
              <a:t>y = x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an element of an electrical circuit which increases its resistance as a function of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33720" y="3662280"/>
          <a:ext cx="4800600" cy="3195720"/>
        </p:xfrm>
        <a:graphic>
          <a:graphicData uri="http://schemas.openxmlformats.org/drawingml/2006/table">
            <a:tbl>
              <a:tblPr/>
              <a:tblGrid>
                <a:gridCol w="2400120"/>
                <a:gridCol w="24004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 = Te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 = Resist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24"/>
          <p:cNvSpPr/>
          <p:nvPr/>
        </p:nvSpPr>
        <p:spPr>
          <a:xfrm>
            <a:off x="7315200" y="3624120"/>
            <a:ext cx="1447920" cy="459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f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ould also take the view that we wish to determine T, temperature as a function of R, res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71880" y="3429000"/>
          <a:ext cx="3695400" cy="3327480"/>
        </p:xfrm>
        <a:graphic>
          <a:graphicData uri="http://schemas.openxmlformats.org/drawingml/2006/table">
            <a:tbl>
              <a:tblPr/>
              <a:tblGrid>
                <a:gridCol w="2095200"/>
                <a:gridCol w="1600200"/>
              </a:tblGrid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 = Resist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Tem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00"/>
                      </a:solidFill>
                    </a:lnL>
                    <a:lnR w="5760">
                      <a:solidFill>
                        <a:srgbClr val="009900"/>
                      </a:solidFill>
                    </a:lnR>
                    <a:lnT w="5760">
                      <a:solidFill>
                        <a:srgbClr val="009900"/>
                      </a:solidFill>
                    </a:lnT>
                    <a:lnB w="5760">
                      <a:solidFill>
                        <a:srgbClr val="0099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33"/>
          <p:cNvSpPr/>
          <p:nvPr/>
        </p:nvSpPr>
        <p:spPr>
          <a:xfrm>
            <a:off x="5943600" y="3429000"/>
            <a:ext cx="1981080" cy="459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g(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34"/>
          <p:cNvSpPr/>
          <p:nvPr/>
        </p:nvSpPr>
        <p:spPr>
          <a:xfrm>
            <a:off x="5867280" y="4114800"/>
            <a:ext cx="2590920" cy="1557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would say that g(R) and f(T) are inverse fun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 = f(T) ... resistance is a function of temperatur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T = f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) ... temperature is the inverse function of res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) is read "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-inver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R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 expon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doe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ean reciproc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6019920" y="4572000"/>
          <a:ext cx="93348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572000"/>
                    <a:ext cx="933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AutoShape 5"/>
          <p:cNvSpPr/>
          <p:nvPr/>
        </p:nvSpPr>
        <p:spPr>
          <a:xfrm>
            <a:off x="5638680" y="4114800"/>
            <a:ext cx="1905120" cy="1523880"/>
          </a:xfrm>
          <a:custGeom>
            <a:avLst/>
            <a:gdLst>
              <a:gd name="textAreaLeft" fmla="*/ 279000 w 1905120"/>
              <a:gd name="textAreaRight" fmla="*/ 1626120 w 1905120"/>
              <a:gd name="textAreaTop" fmla="*/ 223200 h 1523880"/>
              <a:gd name="textAreaBottom" fmla="*/ 13006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9a5a5">
              <a:alpha val="3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es This Have An Inverse FUNCTI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iven the function at the righ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n it have an inverse FUNCTION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y or Why Not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… when we reverse the ordered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irs, the result i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 fun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 would say the function is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t one-to-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function i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one-to-on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different inputs alway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 in different outp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416640" y="1911240"/>
          <a:ext cx="2057400" cy="41655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Y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Oval 25"/>
          <p:cNvSpPr/>
          <p:nvPr/>
        </p:nvSpPr>
        <p:spPr>
          <a:xfrm>
            <a:off x="6416640" y="5187960"/>
            <a:ext cx="2057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Oval 26"/>
          <p:cNvSpPr/>
          <p:nvPr/>
        </p:nvSpPr>
        <p:spPr>
          <a:xfrm>
            <a:off x="6416640" y="2673360"/>
            <a:ext cx="2057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Object 29"/>
          <p:cNvGraphicFramePr/>
          <p:nvPr/>
        </p:nvGraphicFramePr>
        <p:xfrm>
          <a:off x="1085760" y="5826240"/>
          <a:ext cx="360684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5826240"/>
                    <a:ext cx="360684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04920" y="152280"/>
            <a:ext cx="8458200" cy="1143000"/>
          </a:xfrm>
          <a:prstGeom prst="rect">
            <a:avLst/>
          </a:prstGeom>
          <a:gradFill rotWithShape="0">
            <a:gsLst>
              <a:gs pos="0">
                <a:srgbClr val="7f7f66"/>
              </a:gs>
              <a:gs pos="50000">
                <a:srgbClr val="ffffcc"/>
              </a:gs>
              <a:gs pos="100000">
                <a:srgbClr val="7f7f66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34880" y="236520"/>
            <a:ext cx="81979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e-to-One  Func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y = f(x) to be a 1-1 function,  each x corresponds to exactly one y, and each y corresponds to exactly one x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1-1 function f passes both th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tical and horizontal line test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or a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7f7f66"/>
              </a:gs>
              <a:gs pos="100000">
                <a:srgbClr val="ffffcc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HORIZONTAL LINE TEST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or a 1-1 Fun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unction y = f(x)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ne-to-on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(1-1) function if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o horizonta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line intersects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graph of f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t more than one poin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1T15:52:07Z</dcterms:created>
  <dc:creator>Tom Ledvorowski</dc:creator>
  <dc:description/>
  <dc:language>en-US</dc:language>
  <cp:lastModifiedBy>test</cp:lastModifiedBy>
  <dcterms:modified xsi:type="dcterms:W3CDTF">2014-11-20T18:47:08Z</dcterms:modified>
  <cp:revision>37</cp:revision>
  <dc:subject/>
  <dc:title>No Slide Title</dc:title>
</cp:coreProperties>
</file>